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1CFC-F3DC-4553-A38D-9C287797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62DF-05F6-4FF2-B528-D9CC6FB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389B-B661-4796-9624-82E8C636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DACD-17DB-4451-8D0E-1EDFD922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07F-E665-4BF8-841B-2CA940D3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68DA-1109-40F9-9975-645467D9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C211-9467-483D-B87A-D030DB3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6413-DCDC-4B35-9EDD-5B354E01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8A0E-9FED-4A8A-9B62-C3E71040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04DB-8491-4E4E-AE27-99EE5AB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F484-88A9-4B4A-A376-24843BC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5CCD-9896-42FD-B694-2C293CA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5B70-E0A4-4B6D-BC66-6931896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EBA4-A8AF-484F-973F-6B7F8D9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511-F71B-4FB7-A7E1-1210C5D6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5A4A-6B4F-48F4-91FA-A30F4D8A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67D-913C-4E3A-8C73-4517F509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CC07-DF62-43FE-B7FC-32AE26A5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D224-E10A-438B-A0AD-04062ECD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E1F6-2378-477F-BAB8-4878C7C1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5498-5E2D-46B7-AABF-BDA3F21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0880-5BC8-42DC-93B7-EDF4B78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25AB-7D9B-440C-92C9-AE2B217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6381-B47B-40B8-AF27-C83F9B4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4754-E80E-459E-8E3C-8D65729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B41C-ECAC-4B2C-A00C-D13C04F7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6BA0-35B5-4D7B-9B57-0C9BD985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BA70-E21A-4DB9-81F5-F8D0ED8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79CB-49AF-4570-9435-25CFDC7A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C406-6441-4473-906C-EFE8FD4A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E164-0EBC-440A-8F31-68DB259C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DA70-20A7-434F-A782-5C6E2EB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B33F-77DB-410A-B411-2AA4A58B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B2D3-84B5-43EC-887E-47C3C20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5D86-1DFC-44FB-B905-466ABA36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FE8D-7A7B-4F36-9701-1661CBD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03D0-BEE5-45F3-8745-7EB28C7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E392-8917-40F4-9515-8D8C8461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26C0-2674-4BC2-A323-203B065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A6E2-1078-439B-89B1-CD163BE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5531-8976-42F1-A005-6F5B6414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7F8C-7660-41C8-8391-E8F94173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3581-3383-4DFE-948E-FE4C5155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FF9A-AE25-4E6A-908F-3BE42500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A982-9918-4CF3-82A4-7941134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1CA3-4B5E-4867-8ADF-3EB6F3C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457B-4CB3-4C4E-B0C2-5FD2046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537D-BFF4-4929-88CA-E28258B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EEC7-C7CC-4338-A1A1-CC1F308B4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C152-5226-4F8C-9F42-EDE3EB8C2C9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9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47A3-66AF-47A4-B93F-59B7E04D2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5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5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5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5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60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1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grpSp>
        <p:nvGrpSpPr>
          <p:cNvPr id="163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4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6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6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8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2868-AEAA-44C1-A36F-1DCA6BD433C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703440" y="1785960"/>
            <a:ext cx="770400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НАЦИОНАЛЬНЫЙ ПРОЕКТ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«Малое и среднее предпринимательство и поддержка индивидуальной предпринимательской инициативы»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428760" y="357120"/>
            <a:ext cx="82864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Между Администрацией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городского округа город Стерлитамак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спублики Башкортостан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и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Государственным Комитетом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спублики Башкортостан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по предпринимательству и туризму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подписано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Соглашение о реализации регионального проекта «Акселерация субъектов малого и среднего предпринимательства»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от  31.05.2019  № 62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42920" y="1857240"/>
          <a:ext cx="8858160" cy="4680000"/>
        </p:xfrm>
        <a:graphic>
          <a:graphicData uri="http://schemas.openxmlformats.org/drawingml/2006/table">
            <a:tbl>
              <a:tblPr/>
              <a:tblGrid>
                <a:gridCol w="1571760"/>
                <a:gridCol w="571320"/>
                <a:gridCol w="1143000"/>
                <a:gridCol w="857160"/>
                <a:gridCol w="841320"/>
                <a:gridCol w="841680"/>
                <a:gridCol w="507960"/>
                <a:gridCol w="504720"/>
                <a:gridCol w="503280"/>
                <a:gridCol w="503280"/>
                <a:gridCol w="506160"/>
                <a:gridCol w="506520"/>
              </a:tblGrid>
              <a:tr h="4399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ое значение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ей 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одам реализации проекта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асчета (мм.гг)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5400">
                <a:tc>
                  <a:txBody>
                    <a:bodyPr lIns="54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численности занятых в сфере малого и среднего предпринимательства, включая индивидуальных предпринимателей, определенных для всех муниципальных образований Республики Башкортостан, к уровню 2017 года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8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1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3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0600">
                <a:tc>
                  <a:txBody>
                    <a:bodyPr lIns="54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малого и среднего предпринимательства в расчете на 10 тыс. человек населения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,4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8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,74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21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,67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,13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,45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92</a:t>
                      </a:r>
                      <a:endParaRPr b="0" lang="en-US" sz="12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78480"/>
            <a:ext cx="9144000" cy="161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ПОКАЗАТЕЛИ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регионального проекта «Акселерация субъектов малого и среднего предпринимательства» 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по городскому округу г.Стерлитамак РБ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0" y="10000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В рамках подписанного Соглашения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азработан Сводный план мероприятий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городского округа город Стерлитамак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спублики Башкортостан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по достижению результатов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Регионального проекта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«Акселерация субъектов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  <a:ea typeface="바탕"/>
              </a:rPr>
              <a:t>малого и среднего предпринимательства» 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6072120" y="428760"/>
            <a:ext cx="307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На официальном сайте администрации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городского округа г.Стерлитамак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Республики Башкортостан создан раздел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«Малое и среднее предпринимательство»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3071880" y="3429000"/>
            <a:ext cx="5940360" cy="33415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"/>
          <p:cNvPicPr/>
          <p:nvPr/>
        </p:nvPicPr>
        <p:blipFill>
          <a:blip r:embed="rId2"/>
          <a:stretch/>
        </p:blipFill>
        <p:spPr>
          <a:xfrm>
            <a:off x="142920" y="71280"/>
            <a:ext cx="5940360" cy="33577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6"/>
          <p:cNvSpPr/>
          <p:nvPr/>
        </p:nvSpPr>
        <p:spPr>
          <a:xfrm>
            <a:off x="0" y="342900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В целях реализации мероприятий, предусмотренных в  Сводном плане, соответствующая информация для субъектов малого и среднего предпринимательства  размещена на официальном сайте администрации ГО г.Стерлитамак РБ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23:27:28Z</dcterms:created>
  <dc:creator>Ferrari</dc:creator>
  <dc:description/>
  <dc:language>en-US</dc:language>
  <cp:lastModifiedBy>Вед. специалист отдела предпринимательства</cp:lastModifiedBy>
  <cp:lastPrinted>2019-08-02T12:05:39Z</cp:lastPrinted>
  <dcterms:modified xsi:type="dcterms:W3CDTF">2019-10-31T12:10:30Z</dcterms:modified>
  <cp:revision>1303</cp:revision>
  <dc:subject/>
  <dc:title>Презентация PowerPoint</dc:title>
</cp:coreProperties>
</file>